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149C-2939-4596-B495-8D96F8732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5D44-9B54-4D4D-A608-B0BEBE03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576B-49AE-42A3-992D-15798CD39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BC82-2FD1-4878-92EB-3E4B2DD6B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3712-BBC7-4786-AB3C-C17086535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B48A-F57E-4DB4-9646-1F2E32E4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6B1D-02AE-40EE-97A9-CDE4AC95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AE24-9123-48D4-8EB7-941644BA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8425-0B15-4F1D-A9C0-87E7871B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9A9B-0ED0-429D-BCED-A77DD741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6541-3F2B-4E2A-8E05-CC6FE0B3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E004-0245-4FBB-945F-FE5BA36A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1CA3-CB60-4BF9-A8F6-D430E2EE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EC80-7318-41EC-998A-C25D6EA0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2BE4-5AA6-42B4-97A6-A68B36E6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12B8-E979-429F-A24A-4C1EFC710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529F-9292-457A-8921-CC94278E0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4B06-9185-4319-8306-582AC1F6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0C1C-E93B-438D-9560-7F3F687A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B1B2-49A6-4A12-B774-F482EAF4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DC76-2E2E-4F08-8091-4F25BB03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099A-BF69-4C4B-B811-D5907442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3D97-AC18-4BAC-9F2C-577DC3E0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639A-F6BB-449C-828F-8D5E10C3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CCB2-3B46-4A79-9646-C6A79039859D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B011-0383-4FCE-94BA-48128AB24B59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name of a famous person comes to your mind when you look at the map and see Nottingham?</a:t>
            </a: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637960" y="5562000"/>
            <a:ext cx="245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20 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3720" y="4526640"/>
            <a:ext cx="441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Robin Hood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9-01-26T15:17:2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